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45.png" ContentType="image/png"/>
  <Override PartName="/ppt/media/image20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36D-103E-4BAC-9B6C-113234D7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96-0F00-4991-A4DB-15D4963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B28-C703-4569-8206-EE9C3A1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53B-1517-4014-9BD2-341C44C4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EC0-2696-46FE-82EE-3592BCD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EFE-A6A0-4396-AA89-DFD83B61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204-6BC4-4CA0-B06F-083CE28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70-C0FD-4039-8065-675D464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A58-5E74-49A8-B0EE-41B7345C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DE6-E1BD-4C66-BA5E-A6C525A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A95-7340-46CB-BAC5-9A4D03E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1B6-CDB6-48CC-9C02-A8737D5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CE3-2634-49F5-BA90-321B0AE14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apon.at.ua/automat_4/rossiya/AK-74-6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66760" y="1384200"/>
            <a:ext cx="1144584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ы военной службы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15159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"/>
          <p:cNvPicPr/>
          <p:nvPr/>
        </p:nvPicPr>
        <p:blipFill>
          <a:blip r:embed="rId2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"/>
          <p:cNvPicPr/>
          <p:nvPr/>
        </p:nvPicPr>
        <p:blipFill>
          <a:blip r:embed="rId1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pp.userapi.com/c4863/u75339418/118846287/z_d700ff44.jpg"/>
          <p:cNvPicPr/>
          <p:nvPr/>
        </p:nvPicPr>
        <p:blipFill>
          <a:blip r:embed="rId2"/>
          <a:stretch/>
        </p:blipFill>
        <p:spPr>
          <a:xfrm>
            <a:off x="825480" y="0"/>
            <a:ext cx="1008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принад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418600" y="4781520"/>
            <a:ext cx="1627200" cy="1293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8820000" y="4683240"/>
            <a:ext cx="8780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ПРИНАДЛЕЖНОСТЬ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62800" y="6078600"/>
            <a:ext cx="17020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1. ВЫКОЛОТКА   2. ПРОТИРКА    3. ЕРШИК    4. ОТВЕРТКА   5.  ПЕНАЛ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8564400" y="5918040"/>
            <a:ext cx="92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839080" y="5918040"/>
            <a:ext cx="92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131400" y="5918040"/>
            <a:ext cx="918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442440" y="5918040"/>
            <a:ext cx="92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9753480" y="5918040"/>
            <a:ext cx="92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icture 10"/>
          <p:cNvSpPr/>
          <p:nvPr/>
        </p:nvSpPr>
        <p:spPr>
          <a:xfrm>
            <a:off x="1905120" y="990720"/>
            <a:ext cx="32367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946240" y="4361040"/>
            <a:ext cx="4608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" rIns="22680" tIns="11160" bIns="11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8286840" y="5545080"/>
            <a:ext cx="442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228680" y="1144440"/>
            <a:ext cx="32004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5,45-мм РУЧНОЙ ПУЛЕМЕТ КАЛАШНИКОВА ОБРАЗЦА 1974 ГОДА-РПК-7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087560" y="1574640"/>
            <a:ext cx="38098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lvl="2" marL="93600" algn="ctr"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характеристики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цельная дальность, м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1000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Дальность прямого выстрела, м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о грудной фигуре                                                       46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о бегущей фигуре                                                       64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Начальная скорость пули, м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                                  96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емп стрельбы, выстрелов в мин                            6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Боевая скорострельность, выстрелов в мин: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 стрельбе очередями                                         до150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 стрельбе одиночными выстрелами              до 50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Масса пулемета без патронов, г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46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Емкость магазина, патронов                                      45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8520"/>
                <a:tab algn="l" pos="8906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  <a:tab algn="l" pos="4734000"/>
                <a:tab algn="l" pos="4959360"/>
                <a:tab algn="l" pos="518472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209680" y="457200"/>
            <a:ext cx="752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,45-мм ручной пулемет Калашникова является оружием мотострелкового отделения. Он предназначен для уничтожения живой силы и поражения огневых средств против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87560" y="3860640"/>
            <a:ext cx="3182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ля стрельбы ночью к пулемету РПК-74Н присоединяется ночной стрелковый прицел универсальный (НСПУ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961920" y="6075360"/>
            <a:ext cx="3733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5,45-мм РУЧНОЙ ПУЛЕМЕТ КАЛАШНИКОВА ОБРАЗЦА 1974 ГОДА-РПК-74Н  с НСП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19"/>
          <p:cNvGrpSpPr/>
          <p:nvPr/>
        </p:nvGrpSpPr>
        <p:grpSpPr>
          <a:xfrm>
            <a:off x="5562720" y="1219320"/>
            <a:ext cx="4572000" cy="2938320"/>
            <a:chOff x="5562720" y="1219320"/>
            <a:chExt cx="4572000" cy="2938320"/>
          </a:xfrm>
        </p:grpSpPr>
        <p:pic>
          <p:nvPicPr>
            <p:cNvPr id="102" name="Picture 20" descr="рпк раз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562720" y="1287000"/>
              <a:ext cx="4572000" cy="287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21"/>
            <p:cNvGrpSpPr/>
            <p:nvPr/>
          </p:nvGrpSpPr>
          <p:grpSpPr>
            <a:xfrm>
              <a:off x="5690520" y="1219320"/>
              <a:ext cx="4316040" cy="2723040"/>
              <a:chOff x="5690520" y="1219320"/>
              <a:chExt cx="4316040" cy="2723040"/>
            </a:xfrm>
          </p:grpSpPr>
          <p:sp>
            <p:nvSpPr>
              <p:cNvPr id="104" name="AutoShape 22"/>
              <p:cNvSpPr/>
              <p:nvPr/>
            </p:nvSpPr>
            <p:spPr>
              <a:xfrm>
                <a:off x="8433720" y="2041920"/>
                <a:ext cx="164520" cy="117360"/>
              </a:xfrm>
              <a:prstGeom prst="wedgeRectCallout">
                <a:avLst>
                  <a:gd name="adj1" fmla="val -149074"/>
                  <a:gd name="adj2" fmla="val 18368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AutoShape 23"/>
              <p:cNvSpPr/>
              <p:nvPr/>
            </p:nvSpPr>
            <p:spPr>
              <a:xfrm>
                <a:off x="9165240" y="1219320"/>
                <a:ext cx="164520" cy="117360"/>
              </a:xfrm>
              <a:prstGeom prst="wedgeRectCallout">
                <a:avLst>
                  <a:gd name="adj1" fmla="val -125925"/>
                  <a:gd name="adj2" fmla="val 12881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AutoShape 24"/>
              <p:cNvSpPr/>
              <p:nvPr/>
            </p:nvSpPr>
            <p:spPr>
              <a:xfrm>
                <a:off x="9677520" y="1669680"/>
                <a:ext cx="164520" cy="117360"/>
              </a:xfrm>
              <a:prstGeom prst="wedgeRectCallout">
                <a:avLst>
                  <a:gd name="adj1" fmla="val -176851"/>
                  <a:gd name="adj2" fmla="val 5868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AutoShape 25"/>
              <p:cNvSpPr/>
              <p:nvPr/>
            </p:nvSpPr>
            <p:spPr>
              <a:xfrm>
                <a:off x="9201960" y="2179080"/>
                <a:ext cx="164520" cy="117360"/>
              </a:xfrm>
              <a:prstGeom prst="wedgeRectCallout">
                <a:avLst>
                  <a:gd name="adj1" fmla="val -159027"/>
                  <a:gd name="adj2" fmla="val -14618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AutoShape 26"/>
              <p:cNvSpPr/>
              <p:nvPr/>
            </p:nvSpPr>
            <p:spPr>
              <a:xfrm>
                <a:off x="7830000" y="1238760"/>
                <a:ext cx="164520" cy="117360"/>
              </a:xfrm>
              <a:prstGeom prst="wedgeRectCallout">
                <a:avLst>
                  <a:gd name="adj1" fmla="val -175925"/>
                  <a:gd name="adj2" fmla="val 9027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AutoShape 27"/>
              <p:cNvSpPr/>
              <p:nvPr/>
            </p:nvSpPr>
            <p:spPr>
              <a:xfrm>
                <a:off x="7738920" y="1571760"/>
                <a:ext cx="164520" cy="117360"/>
              </a:xfrm>
              <a:prstGeom prst="wedgeRectCallout">
                <a:avLst>
                  <a:gd name="adj1" fmla="val -136574"/>
                  <a:gd name="adj2" fmla="val 7638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AutoShape 28"/>
              <p:cNvSpPr/>
              <p:nvPr/>
            </p:nvSpPr>
            <p:spPr>
              <a:xfrm>
                <a:off x="7373160" y="3060720"/>
                <a:ext cx="164520" cy="117360"/>
              </a:xfrm>
              <a:prstGeom prst="wedgeRectCallout">
                <a:avLst>
                  <a:gd name="adj1" fmla="val 70138"/>
                  <a:gd name="adj2" fmla="val -18888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AutoShape 29"/>
              <p:cNvSpPr/>
              <p:nvPr/>
            </p:nvSpPr>
            <p:spPr>
              <a:xfrm>
                <a:off x="8744760" y="3550680"/>
                <a:ext cx="164520" cy="117360"/>
              </a:xfrm>
              <a:prstGeom prst="wedgeRectCallout">
                <a:avLst>
                  <a:gd name="adj1" fmla="val -174305"/>
                  <a:gd name="adj2" fmla="val -1256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AutoShape 30"/>
              <p:cNvSpPr/>
              <p:nvPr/>
            </p:nvSpPr>
            <p:spPr>
              <a:xfrm>
                <a:off x="6220800" y="1708920"/>
                <a:ext cx="164520" cy="117360"/>
              </a:xfrm>
              <a:prstGeom prst="wedgeRectCallout">
                <a:avLst>
                  <a:gd name="adj1" fmla="val 183333"/>
                  <a:gd name="adj2" fmla="val 22777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AutoShape 31"/>
              <p:cNvSpPr/>
              <p:nvPr/>
            </p:nvSpPr>
            <p:spPr>
              <a:xfrm>
                <a:off x="5690520" y="2610000"/>
                <a:ext cx="164520" cy="117360"/>
              </a:xfrm>
              <a:prstGeom prst="wedgeRectCallout">
                <a:avLst>
                  <a:gd name="adj1" fmla="val -35416"/>
                  <a:gd name="adj2" fmla="val -19513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utoShape 32"/>
              <p:cNvSpPr/>
              <p:nvPr/>
            </p:nvSpPr>
            <p:spPr>
              <a:xfrm>
                <a:off x="6147720" y="2727720"/>
                <a:ext cx="164520" cy="117360"/>
              </a:xfrm>
              <a:prstGeom prst="wedgeRectCallout">
                <a:avLst>
                  <a:gd name="adj1" fmla="val 175231"/>
                  <a:gd name="adj2" fmla="val -19513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AutoShape 33"/>
              <p:cNvSpPr/>
              <p:nvPr/>
            </p:nvSpPr>
            <p:spPr>
              <a:xfrm>
                <a:off x="9842040" y="2277000"/>
                <a:ext cx="164520" cy="117360"/>
              </a:xfrm>
              <a:prstGeom prst="wedgeRectCallout">
                <a:avLst>
                  <a:gd name="adj1" fmla="val -157638"/>
                  <a:gd name="adj2" fmla="val -1381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AutoShape 34"/>
              <p:cNvSpPr/>
              <p:nvPr/>
            </p:nvSpPr>
            <p:spPr>
              <a:xfrm>
                <a:off x="6787800" y="3825000"/>
                <a:ext cx="164520" cy="117360"/>
              </a:xfrm>
              <a:prstGeom prst="wedgeRectCallout">
                <a:avLst>
                  <a:gd name="adj1" fmla="val 200462"/>
                  <a:gd name="adj2" fmla="val -13229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2680" rIns="2268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5360"/>
                    <a:tab algn="l" pos="450720"/>
                    <a:tab algn="l" pos="676440"/>
                    <a:tab algn="l" pos="901800"/>
                    <a:tab algn="l" pos="1127160"/>
                    <a:tab algn="l" pos="1352520"/>
                    <a:tab algn="l" pos="1577880"/>
                    <a:tab algn="l" pos="1803240"/>
                    <a:tab algn="l" pos="2028960"/>
                    <a:tab algn="l" pos="2254320"/>
                    <a:tab algn="l" pos="2479680"/>
                    <a:tab algn="l" pos="2705040"/>
                    <a:tab algn="l" pos="2930400"/>
                    <a:tab algn="l" pos="3156120"/>
                    <a:tab algn="l" pos="3381480"/>
                    <a:tab algn="l" pos="3606840"/>
                    <a:tab algn="l" pos="3832200"/>
                    <a:tab algn="l" pos="4057560"/>
                    <a:tab algn="l" pos="4282920"/>
                    <a:tab algn="l" pos="4508640"/>
                  </a:tabLst>
                </a:pPr>
                <a:r>
                  <a:rPr b="1" lang="ru-RU" sz="6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Group 35"/>
          <p:cNvGrpSpPr/>
          <p:nvPr/>
        </p:nvGrpSpPr>
        <p:grpSpPr>
          <a:xfrm>
            <a:off x="1087560" y="4467240"/>
            <a:ext cx="3341520" cy="1450800"/>
            <a:chOff x="1087560" y="4467240"/>
            <a:chExt cx="3341520" cy="1450800"/>
          </a:xfrm>
        </p:grpSpPr>
        <p:pic>
          <p:nvPicPr>
            <p:cNvPr id="118" name="Picture 36" descr="рпк,нспу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1087560" y="4467240"/>
              <a:ext cx="33415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37"/>
            <p:cNvSpPr/>
            <p:nvPr/>
          </p:nvSpPr>
          <p:spPr>
            <a:xfrm>
              <a:off x="2886480" y="5747400"/>
              <a:ext cx="114156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38"/>
          <p:cNvSpPr/>
          <p:nvPr/>
        </p:nvSpPr>
        <p:spPr>
          <a:xfrm>
            <a:off x="2766960" y="0"/>
            <a:ext cx="6730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,45-мм РУЧНОЙ ПУЛЕМЕТ КАЛАШНИКОВА РПК-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5565600" y="4290840"/>
            <a:ext cx="45532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" rIns="22680" tIns="11160" bIns="1116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остав РПК-74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. Ствол со ствольной коробкой, ударно-спусковым механизмом, прицельным приспособлением, прикладом и пистолетной рукоятк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. Крышка ствольной короб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. Затворная рама с газовым поршн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. Затво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5. Возвратный механиз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6. Газовая трубка со ствольной накладк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7. Цевь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8. Магази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. Шомпо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0. Пламегасите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1. Сошк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2. Пенал с принадлежность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3. Ремен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1" descr="https://images.vector-images.com/104/e1025_odon.gif"/>
          <p:cNvPicPr/>
          <p:nvPr/>
        </p:nvPicPr>
        <p:blipFill>
          <a:blip r:embed="rId4"/>
          <a:stretch/>
        </p:blipFill>
        <p:spPr>
          <a:xfrm>
            <a:off x="0" y="0"/>
            <a:ext cx="784080" cy="752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1" descr=""/>
          <p:cNvPicPr/>
          <p:nvPr/>
        </p:nvPicPr>
        <p:blipFill>
          <a:blip r:embed="rId5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7" descr=""/>
          <p:cNvPicPr/>
          <p:nvPr/>
        </p:nvPicPr>
        <p:blipFill>
          <a:blip r:embed="rId1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pp.userapi.com/c4863/u75339418/118846287/z_a97cc089.jpg"/>
          <p:cNvPicPr/>
          <p:nvPr/>
        </p:nvPicPr>
        <p:blipFill>
          <a:blip r:embed="rId2"/>
          <a:stretch/>
        </p:blipFill>
        <p:spPr>
          <a:xfrm>
            <a:off x="816120" y="0"/>
            <a:ext cx="100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6304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"/>
          <p:cNvPicPr/>
          <p:nvPr/>
        </p:nvPicPr>
        <p:blipFill>
          <a:blip r:embed="rId2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9" descr=""/>
          <p:cNvPicPr/>
          <p:nvPr/>
        </p:nvPicPr>
        <p:blipFill>
          <a:blip r:embed="rId1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s://pp.userapi.com/c4863/u75339418/118846287/z_09bc0cbc.jpg"/>
          <p:cNvPicPr/>
          <p:nvPr/>
        </p:nvPicPr>
        <p:blipFill>
          <a:blip r:embed="rId2"/>
          <a:stretch/>
        </p:blipFill>
        <p:spPr>
          <a:xfrm>
            <a:off x="784080" y="0"/>
            <a:ext cx="101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Устройство РПГ 26"/>
          <p:cNvPicPr/>
          <p:nvPr/>
        </p:nvPicPr>
        <p:blipFill>
          <a:blip r:embed="rId1"/>
          <a:stretch/>
        </p:blipFill>
        <p:spPr>
          <a:xfrm>
            <a:off x="7224840" y="3067200"/>
            <a:ext cx="4967280" cy="376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РПГ Аглень"/>
          <p:cNvPicPr/>
          <p:nvPr/>
        </p:nvPicPr>
        <p:blipFill>
          <a:blip r:embed="rId2"/>
          <a:stretch/>
        </p:blipFill>
        <p:spPr>
          <a:xfrm>
            <a:off x="4184640" y="425520"/>
            <a:ext cx="3963960" cy="264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1" descr="https://images.vector-images.com/104/e1025_odon.gif"/>
          <p:cNvPicPr/>
          <p:nvPr/>
        </p:nvPicPr>
        <p:blipFill>
          <a:blip r:embed="rId3"/>
          <a:stretch/>
        </p:blipFill>
        <p:spPr>
          <a:xfrm>
            <a:off x="0" y="0"/>
            <a:ext cx="784080" cy="752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4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"/>
          <p:cNvSpPr/>
          <p:nvPr/>
        </p:nvSpPr>
        <p:spPr>
          <a:xfrm>
            <a:off x="3283560" y="55440"/>
            <a:ext cx="54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атомет одноразового применения РПГ-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4120" y="1590840"/>
          <a:ext cx="4091040" cy="4757400"/>
        </p:xfrm>
        <a:graphic>
          <a:graphicData uri="http://schemas.openxmlformats.org/drawingml/2006/table">
            <a:tbl>
              <a:tblPr/>
              <a:tblGrid>
                <a:gridCol w="2622600"/>
                <a:gridCol w="1468440"/>
              </a:tblGrid>
              <a:tr h="31716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бр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гранаты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ая скорость гранаты, м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олёта гранаты, с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альность 5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альность 1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альность 25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цельная дальность стрельбы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ость прямого выстрела по цели высотой 2 м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евая 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муля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епробиваемость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77760" rIns="777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7760" marR="77760">
                    <a:lnL w="4320">
                      <a:solidFill>
                        <a:srgbClr val="dddddd"/>
                      </a:solidFill>
                    </a:lnL>
                    <a:lnR w="4320">
                      <a:solidFill>
                        <a:srgbClr val="dddddd"/>
                      </a:solidFill>
                    </a:lnR>
                    <a:lnT w="4320">
                      <a:solidFill>
                        <a:srgbClr val="dddddd"/>
                      </a:solidFill>
                    </a:lnT>
                    <a:lnB w="432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5"/>
          <p:cNvSpPr/>
          <p:nvPr/>
        </p:nvSpPr>
        <p:spPr>
          <a:xfrm>
            <a:off x="876240" y="1030320"/>
            <a:ext cx="373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63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гранатомета РПГ-26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1531800" y="0"/>
            <a:ext cx="9163080" cy="6934320"/>
            <a:chOff x="1531800" y="0"/>
            <a:chExt cx="9163080" cy="6934320"/>
          </a:xfrm>
        </p:grpSpPr>
        <p:sp>
          <p:nvSpPr>
            <p:cNvPr id="138" name="AutoShape 3"/>
            <p:cNvSpPr/>
            <p:nvPr/>
          </p:nvSpPr>
          <p:spPr>
            <a:xfrm>
              <a:off x="1531800" y="0"/>
              <a:ext cx="9163080" cy="67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Picture 4" descr="рпг-7 разобр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5106960" y="1260720"/>
              <a:ext cx="5587560" cy="28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"/>
            <p:cNvSpPr/>
            <p:nvPr/>
          </p:nvSpPr>
          <p:spPr>
            <a:xfrm>
              <a:off x="1645920" y="2770200"/>
              <a:ext cx="3618000" cy="25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lvl="1" marL="457200" algn="ctr"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ические характеристики: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цельная дальность, м                                                       50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аиболее действительный огонь по танкам, м: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ыстрелом ПГ-7В                                                                      330 выстрелом ПГ-7ВМ                                                                  3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ачальная скорость выстрела, м/с                                       12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аксимальная скорость выстрела, м/с                                30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Боевая скорострельность, выстр. в мин                               4-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асса гранатомета с оптическим прицелом, г                 630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асса выстрела с пороховым зарядом, г: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Г-7В                                                                               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2200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ПГ-7ВМ                                                                                     200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2274840" y="5950080"/>
              <a:ext cx="24602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став выстрела к РПГ-7 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.Противотанковая кумулятивная граната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.Пороховой заряд со стабилизаторо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2507760" y="96840"/>
              <a:ext cx="71899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ctr"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УЧНОЙ ПРОТИВОТАНКОВЫЙ ГРАНАТОМЕТ РПГ-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5478480" y="4280040"/>
              <a:ext cx="50608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ctr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став РПГ-7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. Ствол с механическим прицелом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. Ударно-спусковой механизм с предохранителем (изображен в разобранном виде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. Бойковый механизм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. Деревянные чехл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. Рем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2700000" y="4457520"/>
              <a:ext cx="47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60" rIns="23760" tIns="11880" bIns="1188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8404200" y="5994720"/>
              <a:ext cx="475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2215800" y="2455560"/>
              <a:ext cx="26766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ctr"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УЧНОЙ ПРОТИВОТАНКОВЫЙ ГРАНАТОМЕТ РПГ-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922040" y="571320"/>
              <a:ext cx="83044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учной противотанковый гранатомет РПГ-7 предназначен для борьбы с танками, самоходными артиллерийскими установками и другими бронированными средствами противника, а также для уничтожения живой силы, находящейся в легких укрытиях и в сооружениях городского типа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5614560" y="5729400"/>
              <a:ext cx="47484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just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трельба из РПГ-7 производится выстрелами ПГ7В или ПГ-7ВМ с надкалиберной противотанковой гранатой кумулятивного действия.  Бронепробиваемость гранаты дает возможность вести эффективную борьбу со всеми типами современных танков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2217240" y="5692680"/>
              <a:ext cx="26766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t">
              <a:spAutoFit/>
            </a:bodyPr>
            <a:p>
              <a:pPr algn="ctr"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ЫСТРЕЛ К РПГ-7- ПГ-7В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16"/>
            <p:cNvSpPr/>
            <p:nvPr/>
          </p:nvSpPr>
          <p:spPr>
            <a:xfrm>
              <a:off x="7583400" y="1320840"/>
              <a:ext cx="196920" cy="97560"/>
            </a:xfrm>
            <a:prstGeom prst="wedgeRectCallout">
              <a:avLst>
                <a:gd name="adj1" fmla="val -192824"/>
                <a:gd name="adj2" fmla="val 125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ctr">
              <a:spAutoFit/>
            </a:bodyPr>
            <a:p>
              <a:pPr algn="ctr">
                <a:lnSpc>
                  <a:spcPct val="8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AutoShape 17"/>
            <p:cNvSpPr/>
            <p:nvPr/>
          </p:nvSpPr>
          <p:spPr>
            <a:xfrm>
              <a:off x="6279840" y="2208240"/>
              <a:ext cx="196560" cy="97560"/>
            </a:xfrm>
            <a:prstGeom prst="wedgeRectCallout">
              <a:avLst>
                <a:gd name="adj1" fmla="val 72106"/>
                <a:gd name="adj2" fmla="val 19919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ctr">
              <a:spAutoFit/>
            </a:bodyPr>
            <a:p>
              <a:pPr algn="ctr">
                <a:lnSpc>
                  <a:spcPct val="8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AutoShape 18"/>
            <p:cNvSpPr/>
            <p:nvPr/>
          </p:nvSpPr>
          <p:spPr>
            <a:xfrm>
              <a:off x="9358200" y="2714760"/>
              <a:ext cx="196920" cy="97560"/>
            </a:xfrm>
            <a:prstGeom prst="wedgeRectCallout">
              <a:avLst>
                <a:gd name="adj1" fmla="val -184259"/>
                <a:gd name="adj2" fmla="val 16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ctr">
              <a:spAutoFit/>
            </a:bodyPr>
            <a:p>
              <a:pPr algn="ctr">
                <a:lnSpc>
                  <a:spcPct val="8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AutoShape 19"/>
            <p:cNvSpPr/>
            <p:nvPr/>
          </p:nvSpPr>
          <p:spPr>
            <a:xfrm>
              <a:off x="7341840" y="3289320"/>
              <a:ext cx="198360" cy="97560"/>
            </a:xfrm>
            <a:prstGeom prst="wedgeRectCallout">
              <a:avLst>
                <a:gd name="adj1" fmla="val -155092"/>
                <a:gd name="adj2" fmla="val 2431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ctr">
              <a:spAutoFit/>
            </a:bodyPr>
            <a:p>
              <a:pPr algn="ctr">
                <a:lnSpc>
                  <a:spcPct val="8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AutoShape 20"/>
            <p:cNvSpPr/>
            <p:nvPr/>
          </p:nvSpPr>
          <p:spPr>
            <a:xfrm>
              <a:off x="7020000" y="2757600"/>
              <a:ext cx="196560" cy="97560"/>
            </a:xfrm>
            <a:prstGeom prst="wedgeRectCallout">
              <a:avLst>
                <a:gd name="adj1" fmla="val -73712"/>
                <a:gd name="adj2" fmla="val -2915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11880" bIns="11880" anchor="ctr">
              <a:spAutoFit/>
            </a:bodyPr>
            <a:p>
              <a:pPr algn="ctr">
                <a:lnSpc>
                  <a:spcPct val="8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402760" y="1257120"/>
              <a:ext cx="184680" cy="369360"/>
            </a:xfrm>
            <a:custGeom>
              <a:avLst/>
              <a:gdLst/>
              <a:ahLst/>
              <a:rect l="l" t="t" r="r" b="b"/>
              <a:pathLst>
                <a:path w="756" h="515">
                  <a:moveTo>
                    <a:pt x="91" y="110"/>
                  </a:moveTo>
                  <a:cubicBezTo>
                    <a:pt x="47" y="239"/>
                    <a:pt x="75" y="187"/>
                    <a:pt x="18" y="273"/>
                  </a:cubicBezTo>
                  <a:cubicBezTo>
                    <a:pt x="12" y="291"/>
                    <a:pt x="0" y="309"/>
                    <a:pt x="0" y="328"/>
                  </a:cubicBezTo>
                  <a:cubicBezTo>
                    <a:pt x="0" y="464"/>
                    <a:pt x="144" y="460"/>
                    <a:pt x="236" y="473"/>
                  </a:cubicBezTo>
                  <a:cubicBezTo>
                    <a:pt x="352" y="511"/>
                    <a:pt x="358" y="511"/>
                    <a:pt x="491" y="491"/>
                  </a:cubicBezTo>
                  <a:cubicBezTo>
                    <a:pt x="667" y="432"/>
                    <a:pt x="435" y="492"/>
                    <a:pt x="582" y="510"/>
                  </a:cubicBezTo>
                  <a:cubicBezTo>
                    <a:pt x="619" y="515"/>
                    <a:pt x="655" y="497"/>
                    <a:pt x="691" y="491"/>
                  </a:cubicBezTo>
                  <a:cubicBezTo>
                    <a:pt x="722" y="399"/>
                    <a:pt x="756" y="258"/>
                    <a:pt x="709" y="164"/>
                  </a:cubicBezTo>
                  <a:cubicBezTo>
                    <a:pt x="695" y="137"/>
                    <a:pt x="659" y="129"/>
                    <a:pt x="636" y="110"/>
                  </a:cubicBezTo>
                  <a:cubicBezTo>
                    <a:pt x="562" y="48"/>
                    <a:pt x="513" y="25"/>
                    <a:pt x="418" y="0"/>
                  </a:cubicBezTo>
                  <a:cubicBezTo>
                    <a:pt x="357" y="6"/>
                    <a:pt x="296" y="8"/>
                    <a:pt x="236" y="19"/>
                  </a:cubicBezTo>
                  <a:cubicBezTo>
                    <a:pt x="198" y="26"/>
                    <a:pt x="127" y="55"/>
                    <a:pt x="127" y="55"/>
                  </a:cubicBezTo>
                  <a:cubicBezTo>
                    <a:pt x="115" y="73"/>
                    <a:pt x="91" y="110"/>
                    <a:pt x="91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Picture 22" descr="рпг-7 собр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1531800" y="1249560"/>
              <a:ext cx="380988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4" descr="рпг-7 разобр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3876120" y="5244120"/>
              <a:ext cx="1289160" cy="2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5" descr="рпг-7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1531800" y="5174640"/>
              <a:ext cx="2383560" cy="3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26"/>
            <p:cNvSpPr/>
            <p:nvPr/>
          </p:nvSpPr>
          <p:spPr>
            <a:xfrm>
              <a:off x="2038680" y="5760720"/>
              <a:ext cx="255600" cy="121680"/>
            </a:xfrm>
            <a:prstGeom prst="wedgeRectCallout">
              <a:avLst>
                <a:gd name="adj1" fmla="val 143810"/>
                <a:gd name="adj2" fmla="val -1535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60" rIns="23760" tIns="11880" bIns="11880" anchor="ctr">
              <a:spAutoFit/>
            </a:bodyPr>
            <a:p>
              <a:pPr>
                <a:lnSpc>
                  <a:spcPct val="8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1  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27"/>
            <p:cNvSpPr/>
            <p:nvPr/>
          </p:nvSpPr>
          <p:spPr>
            <a:xfrm>
              <a:off x="4691520" y="5716080"/>
              <a:ext cx="255600" cy="121680"/>
            </a:xfrm>
            <a:prstGeom prst="wedgeRectCallout">
              <a:avLst>
                <a:gd name="adj1" fmla="val -168282"/>
                <a:gd name="adj2" fmla="val -1715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760" rIns="23760" tIns="11880" bIns="11880" anchor="ctr">
              <a:spAutoFit/>
            </a:bodyPr>
            <a:p>
              <a:pPr>
                <a:lnSpc>
                  <a:spcPct val="8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2  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Рисунок 38" descr=""/>
          <p:cNvPicPr/>
          <p:nvPr/>
        </p:nvPicPr>
        <p:blipFill>
          <a:blip r:embed="rId5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1521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https://images.vector-images.com/104/e1025_odon.gif"/>
          <p:cNvPicPr/>
          <p:nvPr/>
        </p:nvPicPr>
        <p:blipFill>
          <a:blip r:embed="rId2"/>
          <a:stretch/>
        </p:blipFill>
        <p:spPr>
          <a:xfrm>
            <a:off x="0" y="0"/>
            <a:ext cx="784080" cy="752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"/>
          <p:cNvPicPr/>
          <p:nvPr/>
        </p:nvPicPr>
        <p:blipFill>
          <a:blip r:embed="rId3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9" descr=""/>
          <p:cNvPicPr/>
          <p:nvPr/>
        </p:nvPicPr>
        <p:blipFill>
          <a:blip r:embed="rId1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s://pp.userapi.com/c4863/u75339418/118846287/z_732f9c97.jpg"/>
          <p:cNvPicPr/>
          <p:nvPr/>
        </p:nvPicPr>
        <p:blipFill>
          <a:blip r:embed="rId2"/>
          <a:stretch/>
        </p:blipFill>
        <p:spPr>
          <a:xfrm>
            <a:off x="784080" y="0"/>
            <a:ext cx="101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www.arms-expo.ru/upload/iblock/742/742282f88bc1a18d500d369509e13bf8.jpg"/>
          <p:cNvPicPr/>
          <p:nvPr/>
        </p:nvPicPr>
        <p:blipFill>
          <a:blip r:embed="rId1"/>
          <a:stretch/>
        </p:blipFill>
        <p:spPr>
          <a:xfrm>
            <a:off x="784080" y="1038240"/>
            <a:ext cx="6650280" cy="448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1" descr="https://images.vector-images.com/104/e1025_odon.gif"/>
          <p:cNvPicPr/>
          <p:nvPr/>
        </p:nvPicPr>
        <p:blipFill>
          <a:blip r:embed="rId2"/>
          <a:stretch/>
        </p:blipFill>
        <p:spPr>
          <a:xfrm>
            <a:off x="0" y="0"/>
            <a:ext cx="784080" cy="752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10907640" y="25560"/>
            <a:ext cx="107172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4"/>
          <a:stretch/>
        </p:blipFill>
        <p:spPr>
          <a:xfrm>
            <a:off x="6400800" y="2998800"/>
            <a:ext cx="5791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33360" y="352440"/>
            <a:ext cx="115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чные осколочные гран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479520" y="1060560"/>
            <a:ext cx="11517120" cy="53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ЧНЫЕ ОСКОЛОЧНЫЕ ГРАНАТ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ы для поражения осколками живой силы противника в ближнем б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дальности разлета осколков гранаты быва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тельные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РГД-5, РГН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ронительные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Ф-1, РГО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назначению гранаты делятся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ого назначения (для поражения противника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73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танков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173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ехот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ециального назначения - дымовые, осветительные, сигнальные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ебные (имеют форму и вес боевой грана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7074000" y="2089080"/>
            <a:ext cx="5102280" cy="47512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0" y="17640"/>
            <a:ext cx="12176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ЧНАЯ ОСКОЛОЧНАЯ ГРАНАТА Ф-1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та дистанционного действия, предназначена для поражения живой силы в оборонительном б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ята на вооружение в 1928 году, доработана в 1939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та имеет ребристый корпус из толстой стали. Осколки гранаты имеют большую массу и летят на большую дальность, чем дальность бро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3024360" y="3429000"/>
            <a:ext cx="41176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оевые характерист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0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троти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5-40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аж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до 200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ие запала  3,2-4,2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-во осколков до 300 ш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7625520" y="176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9192240" y="58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7"/>
          <p:cNvSpPr/>
          <p:nvPr/>
        </p:nvSpPr>
        <p:spPr>
          <a:xfrm>
            <a:off x="1080288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03320" y="2089080"/>
            <a:ext cx="2921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0" y="17640"/>
            <a:ext cx="121921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ЧНАЯ ОСКОЛОЧНАЯ ГРАНАТА РГД-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ната дистанционного действия, предназначенная для поражения живой силы противника в наступлении и в обороне.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ята на вооружение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1954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та имеет овальный корпус из тонкой стали. Корпус собран из верхней и нижней частей, каждая из которых включает внешнюю оболочку и вкладыш. Осколки гранаты имеют небольшую массу и летят на дальность меньшую, чем возможная дальность бро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527200" cy="45417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3048120" y="2550960"/>
            <a:ext cx="45021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оевые характерист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троти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35-45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замедл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-4,2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ёта оскол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3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7931160" y="2217600"/>
            <a:ext cx="3422520" cy="37641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3048120" y="4657680"/>
            <a:ext cx="3989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стройство гранаты РГД-5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трубка для зап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колпак с вклады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поддон с вкладыш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0" y="173160"/>
            <a:ext cx="12192120" cy="18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ния новых гранат продиктована «афганским опытом», т.к. возникала угроза поражения при отскоке гранаты или ее скатывания. Гранаты РГН и РГО приняты на вооружени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1981 год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Г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учная оборонительная ударно-дистанционная гран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РГО имеет две наружные и две внутренние стальные полусферы с насечками. При взрыве дает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70-700 оскол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лощадью разлета - 213-286 кв. метров и по осколочному действию граната РГО уступает гранате Ф-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rcRect l="8236" t="8370" r="7539" b="5674"/>
          <a:stretch/>
        </p:blipFill>
        <p:spPr>
          <a:xfrm>
            <a:off x="423720" y="2149560"/>
            <a:ext cx="2521080" cy="460512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3048120" y="2274840"/>
            <a:ext cx="54259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оевые характерист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гранат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0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гексоге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 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альнего взвед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-1.8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самоликвидаци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2-4,2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ета убойных осколк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150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аж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олк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с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40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474040" y="2046240"/>
            <a:ext cx="3487680" cy="3892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3274920" y="4892760"/>
            <a:ext cx="50958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стройство гранаты РГ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стакан с манже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верхние наружная и внутренняя полусф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нижние наружная и внутренняя полусф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345960" y="581040"/>
            <a:ext cx="11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Г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чная наступательная ударно-дистанционная грана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РГН состоит из двух полусфер, изготовленных из алюминиевого сплава с нанесенными внутренние насеч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та РГН при взрыве образует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0-300 осколко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лощадью разлета - 95-96 кв. мет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5960" y="1952640"/>
            <a:ext cx="2530440" cy="4387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3048120" y="2274840"/>
            <a:ext cx="410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оевые характерист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гранаты                             310 г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гексогена                      114 г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альнего взведения   1.3-1.8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самоликвидации        3,2-4,2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разлета убойных осколков до 35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поражения                            10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броска                                    30-45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8155080" y="2487600"/>
            <a:ext cx="3351240" cy="3519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6"/>
          <p:cNvSpPr/>
          <p:nvPr/>
        </p:nvSpPr>
        <p:spPr>
          <a:xfrm>
            <a:off x="3621240" y="5140440"/>
            <a:ext cx="35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Устройство гранаты РГ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стакан с манже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верхняя полусф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нижняя полусф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0" y="173160"/>
            <a:ext cx="119854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ХРАНЕНИЕ РУЧНЫХ ОСКОЛОЧНЫХ ГРА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аты поступают в войска в деревянных ящиках. В ящике гранаты хранятся отдельно от запалов, которые уложены в металлических коробках. Для вскрытия коробок имеется но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нках и крышке ящика нанесена  маркировка, в которой указывается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о и наименование запалов и гранат в ящике, их ве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мер завода изготовителя, год изготовления и знак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пасы гранат и запалов , кроме носимых,  хранятся  в  заводской укупорке. Гранаты переносятся  в  гранатных  подсумках. Запалы помещаются в них отдельно, при этом каждый  запал  должен  быть завернут в бумагу или чистую ветош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62320" y="3143160"/>
            <a:ext cx="6602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знь и творчество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а Тимофеевича Калашник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17440" y="1841040"/>
            <a:ext cx="80694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ноября 1919 года, семнадцатый ребенок в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ожде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Курья Алтай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ь -  Александра Фроловна Калашникова, отец  -  Тимофей Александрович Калаш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0 году семья, признанная кулаческой,  сослана  в Томскую область, посёлок Нижняя Мохов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, устройство и принципы работы разных механиз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048120" y="3105000"/>
            <a:ext cx="6095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5480" y="1739880"/>
            <a:ext cx="29275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специалистов Главного  Артиллерийского  Управления РК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Пистолет-пулемёт Калашникова в изготовлении сложнее и дороже, чем ППШ и ППС, и требует применения дефицитных и медленных фрезерных работ. Поэтому, несмотря на многие подкупающие стороны (малый вес, малая длина, наличие одиночного огня, удачное совмещение переводчика и предохранителя, компактный шомпол и пр.), в настоящем виде своём промышленного интереса не представляет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99080" y="2530440"/>
            <a:ext cx="5693040" cy="1935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93640"/>
            <a:ext cx="10515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ервый пистолет-пулемет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.Т. Калашников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88840" y="111240"/>
            <a:ext cx="2448000" cy="3162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0" y="188640"/>
            <a:ext cx="36957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-4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8599320" y="111240"/>
            <a:ext cx="2892600" cy="31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4029120" y="933480"/>
            <a:ext cx="3597120" cy="2062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297000" y="3533760"/>
            <a:ext cx="1119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42 года Калашников работает на Центральном научно-исследовательском полигоне стрелкового вооружения (НИПСМВО) Главного Артиллерийского управления РК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4 году он создал опытный образец самозарядного карабина, который частично послужил прототипом для создания автом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45 года Михаил начал разработку автоматического оружия под промежуточный патрон 7,62×39 образца 1943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7 году автомат Калашникова победил в конкурсе и был принят на вооруж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ующие разработки стрелкового оружия    М.Т. Калашнико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74680" y="1484280"/>
            <a:ext cx="301140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510080" y="1490760"/>
            <a:ext cx="2187720" cy="166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7947000" y="1438200"/>
            <a:ext cx="3227400" cy="1712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1198440" y="315108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С-74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4905360" y="31654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74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9180360" y="31654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2"/>
          <p:cNvSpPr/>
          <p:nvPr/>
        </p:nvSpPr>
        <p:spPr>
          <a:xfrm flipH="1">
            <a:off x="8797320" y="3165480"/>
            <a:ext cx="13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ПК-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114480" y="3487680"/>
            <a:ext cx="3259080" cy="1535040"/>
          </a:xfrm>
          <a:prstGeom prst="rect">
            <a:avLst/>
          </a:prstGeom>
          <a:ln w="0">
            <a:noFill/>
          </a:ln>
        </p:spPr>
      </p:pic>
      <p:pic>
        <p:nvPicPr>
          <p:cNvPr id="68" name="Графический объект33" descr=""/>
          <p:cNvPicPr/>
          <p:nvPr/>
        </p:nvPicPr>
        <p:blipFill>
          <a:blip r:embed="rId5"/>
          <a:stretch/>
        </p:blipFill>
        <p:spPr>
          <a:xfrm>
            <a:off x="7947000" y="3583080"/>
            <a:ext cx="3362400" cy="1261800"/>
          </a:xfrm>
          <a:prstGeom prst="rect">
            <a:avLst/>
          </a:prstGeom>
          <a:ln w="0">
            <a:noFill/>
          </a:ln>
        </p:spPr>
      </p:pic>
      <p:pic>
        <p:nvPicPr>
          <p:cNvPr id="69" name="Графический объект25" descr=""/>
          <p:cNvPicPr/>
          <p:nvPr/>
        </p:nvPicPr>
        <p:blipFill>
          <a:blip r:embed="rId6"/>
          <a:stretch/>
        </p:blipFill>
        <p:spPr>
          <a:xfrm>
            <a:off x="7947000" y="5286240"/>
            <a:ext cx="3181320" cy="1440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1157400" y="503568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К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0"/>
          <p:cNvSpPr/>
          <p:nvPr/>
        </p:nvSpPr>
        <p:spPr>
          <a:xfrm>
            <a:off x="9059040" y="49179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5"/>
          <p:cNvSpPr/>
          <p:nvPr/>
        </p:nvSpPr>
        <p:spPr>
          <a:xfrm>
            <a:off x="6879960" y="6327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Графический объект26" descr=""/>
          <p:cNvPicPr/>
          <p:nvPr/>
        </p:nvPicPr>
        <p:blipFill>
          <a:blip r:embed="rId7"/>
          <a:stretch/>
        </p:blipFill>
        <p:spPr>
          <a:xfrm>
            <a:off x="114480" y="5307120"/>
            <a:ext cx="3284280" cy="1388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8"/>
          <p:cNvSpPr/>
          <p:nvPr/>
        </p:nvSpPr>
        <p:spPr>
          <a:xfrm>
            <a:off x="3592440" y="63216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-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pobeda2aa"/>
          <p:cNvPicPr/>
          <p:nvPr/>
        </p:nvPicPr>
        <p:blipFill>
          <a:blip r:embed="rId8"/>
          <a:stretch/>
        </p:blipFill>
        <p:spPr>
          <a:xfrm>
            <a:off x="4308480" y="3524400"/>
            <a:ext cx="2567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3640" y="147240"/>
            <a:ext cx="1086156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втомат Калашникова (АК-74) является  индивидуальным оружием. </a:t>
            </a:r>
            <a:br>
              <a:rPr sz="3200"/>
            </a:br>
            <a:r>
              <a:rPr b="1" lang="ru-RU" sz="3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Он предназначен для уничтожения живой силы и поражения огневых средств противник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34" descr="Картинка 42 из 1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9720" y="2087640"/>
            <a:ext cx="83264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5920" y="136440"/>
            <a:ext cx="1072512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ля поражения противника в рукопашном бою к автомату присоединяется штык-нож. </a:t>
            </a:r>
            <a:br>
              <a:rPr sz="3200"/>
            </a:br>
            <a:r>
              <a:rPr b="0" lang="ru-RU" sz="32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Для стрельбы и наблюдения в условиях естественной ночной освещенности к автомату присоединяется ночной стрелковый прицел универсальный НСП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Picture 12" descr="AK74M_01"/>
          <p:cNvPicPr/>
          <p:nvPr/>
        </p:nvPicPr>
        <p:blipFill>
          <a:blip r:embed="rId1"/>
          <a:stretch/>
        </p:blipFill>
        <p:spPr>
          <a:xfrm>
            <a:off x="1050840" y="2897280"/>
            <a:ext cx="91137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7"/>
          <p:cNvSpPr/>
          <p:nvPr/>
        </p:nvSpPr>
        <p:spPr>
          <a:xfrm>
            <a:off x="92160" y="0"/>
            <a:ext cx="11893320" cy="674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ОЕВЫЕ СВОЙСТВА      АК-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алиб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К-74 …………………………………………………………….........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5,4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цельная дальность стрельб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автомата ……………... ...........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1000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иболее действенный огон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наземным целям до………………………………………………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500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воздушным целям до……………………………..…………….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500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скорость полета пу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……………………………………….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900 м/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бойное действие пул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охраняется на дальности до…………….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1350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средоточенный огон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 наземным групповым цел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ется на дальности до………………………………………….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1000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оевая скорострельност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диночными до…………………………………………………….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40 в/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редью до………………………………………………………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100 в/ми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емп стрельб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коло……………………………………………………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600 в/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альность прямого выстрел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грудной фигуре……………………………………………………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440 м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бегущей фигуре …………………………………………………..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625 м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е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втомата без штык - ножа со снаряженным пластмассовым  магазином ………………………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3.6 к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с штык - ножа с ножнами ……………………………………..…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490г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мкость магазин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……………… ……………………………………….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30 патр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исло нарезо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канале ствола ……………………………………………….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14:14:25Z</dcterms:created>
  <dc:creator>Gennady Panin</dc:creator>
  <dc:description/>
  <dc:language>en-US</dc:language>
  <cp:lastModifiedBy>й</cp:lastModifiedBy>
  <dcterms:modified xsi:type="dcterms:W3CDTF">2026-01-16T17:42:28Z</dcterms:modified>
  <cp:revision>42</cp:revision>
  <dc:subject/>
  <dc:title>Стрелковое оружие и ручные противотанковые гранатометы</dc:title>
</cp:coreProperties>
</file>